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40D5-1AA3-45CE-8341-76921BCB0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B81C-041C-4E44-B23A-E2996557878A}" type="slidenum">
              <a:rPr b="0" lang="en-US" sz="1200" spc="-1" strike="noStrike">
                <a:solidFill>
                  <a:srgbClr val="2c110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346C-9151-42FF-893B-D63CEDFBFA8A}" type="slidenum">
              <a:rPr b="0" lang="en-US" sz="1200" spc="-1" strike="noStrike">
                <a:solidFill>
                  <a:srgbClr val="2c110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18AA-8575-40DE-ABE9-79FE5D4FD291}" type="slidenum">
              <a:rPr b="0" lang="en-US" sz="1200" spc="-1" strike="noStrike">
                <a:solidFill>
                  <a:srgbClr val="2c110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E6A8-060C-42CE-81BF-717FA8A685FC}" type="slidenum">
              <a:rPr b="0" lang="en-US" sz="1200" spc="-1" strike="noStrike">
                <a:solidFill>
                  <a:srgbClr val="2c110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C1F2-FF7C-4247-BA0B-AC93317D7F3B}" type="slidenum">
              <a:rPr b="0" lang="en-US" sz="1200" spc="-1" strike="noStrike">
                <a:solidFill>
                  <a:srgbClr val="2c110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70B5-B6B3-4D23-9942-96964246BB30}" type="slidenum">
              <a:rPr b="0" lang="en-US" sz="1200" spc="-1" strike="noStrike">
                <a:solidFill>
                  <a:srgbClr val="2c110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365B-024F-4780-997F-B766502135B4}" type="slidenum">
              <a:rPr b="0" lang="en-US" sz="1200" spc="-1" strike="noStrike">
                <a:solidFill>
                  <a:srgbClr val="2c110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EEC6-18AA-4DA6-94F0-3BFF4B1958AF}" type="slidenum">
              <a:rPr b="0" lang="en-US" sz="1200" spc="-1" strike="noStrike">
                <a:solidFill>
                  <a:srgbClr val="2c110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3E7B-E2E1-4002-A6FB-914A86753D1A}" type="slidenum">
              <a:rPr b="0" lang="en-US" sz="1200" spc="-1" strike="noStrike">
                <a:solidFill>
                  <a:srgbClr val="2c110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1239-7352-4159-8B37-A682E010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1E8-0814-4D9E-8B67-FD99699A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14F-0BD0-4333-97B9-C4790FB1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8417-E692-43EA-8EB1-1F3055FD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42B3-F0E3-4397-8324-B3942057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C22F-541E-4AF7-91E2-8C2C80E2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9A39-1D0E-43CF-BF25-7D7763F5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A192-BF8E-45BE-BA70-E669974D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82B9-B93E-4318-AB36-AEF96D15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C854-1728-4A76-8EFA-61FEA2FB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B9B5-6315-4D2F-A692-56C0E07D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C21F-CDCE-48FB-8585-B64078EC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8D63-DE32-4154-8555-674BB10B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6AA7-67FF-4F9F-B8A3-89D5F992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4E8A-B8E4-4A29-92DD-C3A5CBD9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14E8-18A9-49FD-8D09-852CA78C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B312-14EC-4ABD-9223-F9C8568B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C1B-C457-4F4A-B237-94D92DF7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72E-AE64-4985-842E-134028FB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F1B4-3641-473F-83FB-0F581E52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2CA-9616-4C63-8011-FEA43903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922-B08A-4055-98FC-65E13425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E8A4-662D-4030-9501-1242ABB2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569F-D4EE-4F78-A04F-00069A22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4883-9C3A-4C99-9D41-CB4BAA3515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7FB8-9FF7-4E9F-9D31-DBA97F2F8A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uther Starts the Reformation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400" y="2971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e creation of the _______________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nd the reaction of the _____________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auses of the Reformation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86800" cy="579132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Many forces and circumstances weakened the church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__________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__________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In Germany, difficult for pope or emperor to impose central authority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Northern merchants resented paying taxes to Rome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Problems in the ______________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Popes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________________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Priests and monks 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Some married, gambled, drank in excess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Early Calls for Reform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John Wycliffe and Jan Hus denied that ______________________ and taught that _________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Luther Challenges the Church</a:t>
            </a:r>
            <a:endParaRPr b="1" lang="en-US" sz="36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609588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____________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Taught scripture at the University of Wittenberg from 1512 until    his death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In 1517, took a stand against the actions of a friar named Johann Tetzel who was raising money to rebuild St. Peter’s Cathedral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Tetzel had been selling 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c11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Indulgences were _____________; people started believing they could “____” their way into heaven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____________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Luther, troubled by indulgences, wrote ___________(formal statements) attacking the “pardon-merchants”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On October 31, 1517 Luther posted the 95 theses on the door of the castle in Wittenberg, inviting other scholars to debate him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________________________and thus his ideas spread rapidly through Germany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His actions began the </a:t>
            </a:r>
            <a:r>
              <a:rPr b="1" i="1" lang="en-US" sz="2400" spc="-1" strike="noStrike">
                <a:solidFill>
                  <a:srgbClr val="2c1102"/>
                </a:solidFill>
                <a:latin typeface="Arial"/>
              </a:rPr>
              <a:t>__________________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This lead to the formation of Christian Churches ________________________________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305920" cy="617220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 Reformation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A movement for religious reform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Luther moved beyond indulgences and called for a full reform of the church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Teachings rested on three main ideas: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e3d1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3d19"/>
                </a:solidFill>
                <a:latin typeface="Arial"/>
              </a:rPr>
              <a:t>__________________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e3d1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3d19"/>
                </a:solidFill>
                <a:latin typeface="Arial"/>
              </a:rPr>
              <a:t>All church teachings should be based on the __________________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e3d1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3d19"/>
                </a:solidFill>
                <a:latin typeface="Arial"/>
              </a:rPr>
              <a:t>All people of faith are equal; therefore, they do not need ____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The Response to Luther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In 1520 Pope Leo X threatens to ________________ Luther unless he retracted his statements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Luther and his students burned the Pope’s decree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c11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Luther is _____________________________________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2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 Emperor’s Opposition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Arial"/>
              </a:rPr>
              <a:t>Charles V (20 years old); devout Catholic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Issues 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c11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No food or water for Luther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c11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All of Luther’s books burned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Arial"/>
              </a:rPr>
              <a:t>Prince Frederick the Wise of Saxony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Sheltered Luther in his castle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Luther 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Arial"/>
              </a:rPr>
              <a:t>Luther returns to Wittenberg where many of his ideas were being put into practice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Preaching in German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Ministers married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Arial"/>
              </a:rPr>
              <a:t>Luther and his followers become known as the </a:t>
            </a:r>
            <a:r>
              <a:rPr b="0" i="1" lang="en-US" sz="2400" spc="-1" strike="noStrike">
                <a:solidFill>
                  <a:srgbClr val="2c1102"/>
                </a:solidFill>
                <a:latin typeface="Arial"/>
              </a:rPr>
              <a:t>_________________________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382240" cy="65534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 Peasants’ Revolt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1524, reformers excited by talk of Christian freedom demand the end of serfdom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______________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Luther wrote letter to princes saying show no mercy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c11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Princes armies crush the revolt; massacre approx. 100,000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c11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Feeling betrayed, many peasants reject Luther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Germany at War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1529, German princes who support pope agree to join forces against Luther’s ideas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Princes who support Luther sign a protest against this agreement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The protesting princes became known as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c11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Eventually Protestant means __________________________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Charles V goes to war with Protestants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___________________(1555)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Charles and all German princes, Protestant and Catholic assemble in Augsburg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_______________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Famous religious settlement known as </a:t>
            </a:r>
            <a:r>
              <a:rPr b="0" i="1" lang="en-US" sz="2000" spc="-1" strike="noStrike">
                <a:solidFill>
                  <a:srgbClr val="2c1102"/>
                </a:solidFill>
                <a:latin typeface="Arial"/>
              </a:rPr>
              <a:t>Peace of Augsburg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305920" cy="571500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Arial"/>
              </a:rPr>
              <a:t>Henry the VIII needed a male heir to take over the throne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Catherine, his wife, could have no more children, thus Henry “needed” to annul their marriage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The pope refused to make the annulment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___________________________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1529, Henry asks Parliament to pass a set of laws that ended the Pope’s power in England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1533, Henry secretly marries Anne Boleyn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Parliament legalizes Henry’s divorce from Catherine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1534, Parliament votes to approve Act of Supremacy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This act made the English King the _________________________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Thus, the break with the __________ is made complete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onsequences of Henry’s changes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Henry closes all _________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Henry’s third wife (Jane Seymour) gave him his son, Edward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All 3 of Henry’s children eventually ruled England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28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England Becomes Protestant</a:t>
            </a:r>
            <a:endParaRPr b="1" lang="en-US" sz="32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305920" cy="647712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Elizabeth Restores Protestantism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1558, Elizabeth returns England to Protestantism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Set-up a national church; only legal church in England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Parliament declared Elizabeth head of the </a:t>
            </a:r>
            <a:r>
              <a:rPr b="0" i="1" lang="en-US" sz="1800" spc="-1" strike="noStrike">
                <a:solidFill>
                  <a:srgbClr val="2c1102"/>
                </a:solidFill>
                <a:latin typeface="Arial"/>
              </a:rPr>
              <a:t>Anglican Church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Establishes a state church for moderate Catholics &amp; Protestants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____________________________________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Could deliver sermons in ______________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Kept the rich Catholic ________________________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Book of Common Prayer revised to be more acceptable to Catholics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 __________________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Phillip (Spanish King) planned to attack Protestant England in retaliation for Elizabeth’s 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1588 - 130 ships 8000 sailors, 19000 soldiers composed the </a:t>
            </a:r>
            <a:r>
              <a:rPr b="0" i="1" lang="en-US" sz="1800" spc="-1" strike="noStrike">
                <a:solidFill>
                  <a:srgbClr val="2c1102"/>
                </a:solidFill>
                <a:latin typeface="Arial"/>
              </a:rPr>
              <a:t>Spanish Armada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c11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c1102"/>
                </a:solidFill>
                <a:latin typeface="Arial"/>
              </a:rPr>
              <a:t>Bad weather and the English Fleet defeated the Spanish completely</a:t>
            </a:r>
            <a:endParaRPr b="0" lang="en-US" sz="16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Money was a major problem during Elizabeth’s reign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She attempted to solve this problem with the formation of an American empire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632448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Other Reformers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Christians began ____________________________, thus leading to the formation of new Protestant groups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nabaptists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_________________________________________________(no infant baptism)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________________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c11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Amish, Mennonites, Quakers, and Baptists (at first)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Katherina Zell; claimed she had done more than any minister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Katherina von Bora (Luther’s wife)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c11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Well-run household became a model for others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As Protestant religions became more established, male church leaders frowned upon _______ taking leadership roles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3:13:49Z</dcterms:created>
  <dc:creator>System Administrator</dc:creator>
  <dc:description/>
  <dc:language>en-US</dc:language>
  <cp:lastModifiedBy>admin</cp:lastModifiedBy>
  <dcterms:modified xsi:type="dcterms:W3CDTF">2011-01-04T22:02:27Z</dcterms:modified>
  <cp:revision>37</cp:revision>
  <dc:subject/>
  <dc:title>Luther Starts the Reformation</dc:title>
</cp:coreProperties>
</file>